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EE9-196A-4622-AA63-C3BE9565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556-3112-4E5D-8D85-87F292A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265-CD8A-46A7-8475-38B978F9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AA3-DE83-45D6-939F-25FA8400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86C-3B35-47AE-8B28-F5FE37F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E16C-3C83-4D46-A924-30E37A9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A159-4710-4915-9449-9DF0669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B288-57C8-43CA-804C-C440AD8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EF78-03D2-427D-A8DB-68D1DD1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6B9-CB49-454B-B131-A844282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AD2-D902-4B27-82A4-B88B92C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B3A-A963-4316-829B-1A7EF16C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B923-27FD-485B-862D-C2D60EC0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951-4B4D-496D-BA74-B235137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87C-3A48-4D98-AD99-EAEC74E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774-128F-4C1D-883D-9098402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5E69-A5F1-47D6-BFD9-9106507A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E2C3-0DA2-4962-BA01-6781B9C1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024A-EEEF-4C47-9345-47BB465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0BE9-59D8-48AF-BBAD-1EAFA760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3062-F516-4A58-A359-6DAB87E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1B71-D0B3-4FE5-A6D7-9FDB798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369-5F09-4B5E-92BA-9B85312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40E1-64ED-4094-B4F6-B69CBF9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4E9F-6CC0-4565-9B5B-AD87EBB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B6CC-5EB3-4779-9D9C-04295A3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DB3A-DA96-4727-8F43-FEB0C36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EA07-AED6-4FFB-80DD-E43E1770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200A-7DBF-49A1-9443-0F9BC9D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7815-7B5C-4942-ACC7-628DA73A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225-24A5-45CC-BF8A-57C31AA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A45-E0CD-4558-B086-DF2B5ED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E76-0B58-4FCE-83A5-F734DC3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7F0-8572-4CD2-841C-2F2965E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7CD-12D5-4128-B87D-1757EC74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C79-45B9-4408-91A9-738F6BC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50A9D3D4-9B60-4674-94C4-DC0591D25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1451-F80F-4F94-BDE5-DAD5B7AEDC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30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33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36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139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140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8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2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8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69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0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1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2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3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4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75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B469F059-4052-4FA5-80EE-577CF36E4A4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8E2-B342-4D42-9001-3288A138196D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3 de mayo d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res?¿Como e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7030a0"/>
                </a:solidFill>
                <a:latin typeface="Arial"/>
              </a:rPr>
              <a:t>L.O- to learn to differentiate between “ser” and “e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A56C323F-480E-463E-98F2-89B299931FF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6 de abri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1" name="Picture 5" descr="bs00965_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A6BD6AD6-4AC8-496B-8D01-6EDA270D1D98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65" name="Picture 5" descr="en00508_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D07FC49-C3CF-425F-AE6D-0982CC9CDBA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0" name="Picture 6" descr="bs01001_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A0D616A-E1B4-49A9-B5EE-269763351CC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AF11EB3F-3076-4E0E-A194-F370CAD83A38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yo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77" name="Picture 5" descr="an00106_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6BA11B60-18F7-4B26-8F55-3B80AC79498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cup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81" name="Picture 5" descr="pe03704_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107682A9-D54E-4194-9B93-2664028F1B9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ugando bien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85" name="Picture 5" descr="j0079256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2: Capitulo 6 TOMORROW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. 200-2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52F8-2B44-4691-95A6-6F6D8DEAB5F8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Tarea # 71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aceutico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io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y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E6E-E3BF-4AC9-AEF3-5D7A298E3C3D}" type="slidenum"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3733920" y="167148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pharmicist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2286000" y="25099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pil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752480" y="3429000"/>
            <a:ext cx="327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syrup medicine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438280" y="4033800"/>
            <a:ext cx="1981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aspirin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3048120" y="45673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antibiotics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2590920" y="517680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infection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2743200" y="578628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injection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8B7CCDE-6662-439D-B72F-8A73F9E77F7B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33" name="Picture 5" descr="bs01923_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2A47091A-6887-4648-AD99-BEB0ECBF761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7EA7134-BA3D-4529-B3D4-F3F47A366264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42" name="Picture 5" descr="bd05558_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9E6A7E9-135D-4148-9D7C-1B42D911B719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FFF9C7F-8416-42EE-B16A-857CBE12FB7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9" name="Picture 6" descr="BD05680_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24CE398C-961A-440C-9FE4-59F500E70FF4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lum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3" name="Picture 5" descr="PE01460_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E4612F2-7048-4538-93B2-485F4666ED75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7" name="Picture 5" descr="bd06630_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Helen Zumaeta</cp:lastModifiedBy>
  <cp:lastPrinted>2016-05-23T15:39:13Z</cp:lastPrinted>
  <dcterms:modified xsi:type="dcterms:W3CDTF">2016-05-23T20:34:52Z</dcterms:modified>
  <cp:revision>115</cp:revision>
  <dc:subject/>
  <dc:title>Ser &amp; Estar</dc:title>
</cp:coreProperties>
</file>